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72D4-4406-49E0-A5C3-75720C1BD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C4B4-7BB6-4DBE-A033-8720F54A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076C-D14E-4F0E-90FB-248ADFFD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B829-FD99-4E46-A39F-F7C57BCB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FB27-610A-4ECF-B102-ADCB13DE9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F728-4B92-4302-9493-15C98CF0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1D7C-394F-48E0-8CE7-A16D8CE8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4BA7-4CF1-4432-90E0-6B0BB626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89A4-3935-4731-BFDB-BC3B3CD9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E2BA-27ED-4CA1-AFD6-0E06E2E1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0E49-B26A-48C0-B294-C9E5CF7D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262F-4295-48FF-8241-FB1845F2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3852-58C2-4C96-A0BD-CEE40809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D03B-6C4B-439D-94F8-822BEAAE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3E95-EAAB-4C89-889E-17ED7B71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13BF-403E-4FED-9A44-0E8EF7AFB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FAA3-2FDA-44C3-BFEC-80DA3260F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11C4-33C5-4A80-A8FE-77419FC3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8173-2044-4B14-819B-5D2139A4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4BCF-252D-4C3E-96AA-B0A98BF0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A385-FD22-40B1-B778-A1726EA4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4BCA-017A-470D-98C6-0B9E3F59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261A-6D10-49E4-A1ED-ADCF0722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5229-51B2-4ACC-B1ED-37517FE4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DD50-9BFA-4548-AAC4-DDB92191F4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9A33-261A-4B15-9CE4-985A27129A4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upernatural" TargetMode="External"/><Relationship Id="rId2" Type="http://schemas.openxmlformats.org/officeDocument/2006/relationships/hyperlink" Target="http://en.wikipedia.org/wiki/Ghost" TargetMode="External"/><Relationship Id="rId3" Type="http://schemas.openxmlformats.org/officeDocument/2006/relationships/hyperlink" Target="http://en.wikipedia.org/wiki/Haunted_house" TargetMode="External"/><Relationship Id="rId4" Type="http://schemas.openxmlformats.org/officeDocument/2006/relationships/hyperlink" Target="http://en.wikipedia.org/wiki/Gothic_architecture" TargetMode="External"/><Relationship Id="rId5" Type="http://schemas.openxmlformats.org/officeDocument/2006/relationships/hyperlink" Target="http://en.wikipedia.org/wiki/Castle" TargetMode="External"/><Relationship Id="rId6" Type="http://schemas.openxmlformats.org/officeDocument/2006/relationships/hyperlink" Target="http://en.wikipedia.org/wiki/Darkness" TargetMode="External"/><Relationship Id="rId7" Type="http://schemas.openxmlformats.org/officeDocument/2006/relationships/hyperlink" Target="http://en.wikipedia.org/wiki/Death" TargetMode="External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English Fun and Exciting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y 5-Juni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othic Architectu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7756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all of the </a:t>
            </a: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House of Usher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-questions to think about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What is the narrator's connection the Usher'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Why has the narrator been summoned by Roderick Ush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What was the narrator's first impression of the Usher hous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What are some elements that make the story Gothic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 Based on what we know about the atmosphere and the creepiness of the     mansion, what do you think might happen next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 sentences pract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ne let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r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all of the House of Us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e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O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United states had controlled the land around the Panama canal sense November 1903 but on December 31 1999 that control returned to Panam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 Mitchelle hole address is 209 Buena Vista Avenue Northport NE 68409 but you listed the street address as 209 Buena Vista Driv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es:scale::__________:no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ndpaper:smooth:: ____________:burnis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riting good senten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she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o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ar Monty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’m really sick and tired of your mess. It’s embarrassing to walk into our dorm and see your stuff everywhere. If you don’t clean up I am moving out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o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ar Monty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am so tired of your mess everywhere, what can we do to solve the problem. I am willing to work with you in any way you need. Let me kno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AF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-Ro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-Audi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-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-Top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R- ant, A- young boy, F- verbal plea, T- convincing the boy not to step on yo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ssign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le-The Rav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dience-The man in the poem, Homer’s character in the cli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at-Poem, follow Poe’s example. (At least 6 lin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pic-Were you real or in the man’s mi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othic Fi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inent features of Gothic fiction include terror (both psychological and physical), mystery, the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supernatural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ghost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haunted house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and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Gothic architectur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castle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darknes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7"/>
              </a:rPr>
              <a:t>death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, decay, doubles, madness, secrets, and hereditary cur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8:34:11Z</dcterms:created>
  <dc:creator>VMS</dc:creator>
  <dc:description/>
  <dc:language>en-US</dc:language>
  <cp:lastModifiedBy>VMS</cp:lastModifiedBy>
  <dcterms:modified xsi:type="dcterms:W3CDTF">2009-08-25T18:28:25Z</dcterms:modified>
  <cp:revision>3</cp:revision>
  <dc:subject/>
  <dc:title>English Fun and Exciting</dc:title>
</cp:coreProperties>
</file>